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F3B-6AEF-475B-A8B1-3CFEB785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186-4D2D-440B-AD24-A2D4372C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44D-19C0-43FF-849A-CDDCCAEF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D2B-24C2-4FF2-A19F-2BBC1CF4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D81-8CAB-4DEF-BEA6-34791C4C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307-0D7D-4582-83FC-10BC037E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D99-8B50-4BB9-8605-62C5CC2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329-C30E-44FF-B013-11E6252B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313-2EF5-477F-8756-90579E4D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4F6-665E-4319-8716-A65F210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5EB-A4C0-4F0F-BD64-0C5B020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B27-D776-43CF-B33F-D1E1CCB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346-506C-450E-B512-407BB9EDBE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5160" y="1447920"/>
            <a:ext cx="424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0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248520" cy="118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248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124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172200" cy="1222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095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51Z</dcterms:modified>
  <cp:revision>208</cp:revision>
  <dc:subject/>
  <dc:title>Slide 1</dc:title>
</cp:coreProperties>
</file>